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2D2-7F07-4B35-AFF7-3E0C9029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FD0-436F-40D9-AA15-26E9E7E3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F22-281D-4F88-AC97-9AA0C73F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DDA-0BA7-43AB-8042-928010E3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02A-E7BA-4E0C-B3E5-53494F8E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C43E-0D20-418F-85A3-CBDE0642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D10-7F63-4620-872C-FAFD2DD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C839-8E5E-4A98-B48B-4B4D95BC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F0C7-33D0-43DE-ABB8-383ED8B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95B-C91A-4A97-ABE4-1277ED2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F1D-FCD9-4966-AC2A-D0163BA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918-12B0-47F4-B7E2-20F63F4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3269-5601-4E67-9437-43B7D968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3D2-D899-4634-9B25-8C6450B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0E5B-BDBF-4137-979B-68486457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670A-3527-46B2-8969-C9AEC6D4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C265-8636-47D8-990A-1969F04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99-4780-493C-85E3-414C7CFD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82E-4ED8-4586-B5EC-41A410F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3A84-B1C9-46D1-AE67-2A868F4E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DA6-EC1C-4DB1-B770-927FF925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0AB-F7E7-4174-A90C-C9A4574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984-F033-41BB-B63C-096CA836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6D6-E519-40F7-A0BF-AADC266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279-C13B-463B-A58A-6D74C6815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0C0-B81A-4FE0-A6EA-1BDA2413F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hyperlink" Target="http://en.wikipedia.org/wiki/File:Waclaw_Sierpinski_Prezes_TNW.jpg" TargetMode="External"/><Relationship Id="rId13" Type="http://schemas.openxmlformats.org/officeDocument/2006/relationships/image" Target="../media/image12.jpe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57360" y="577440"/>
            <a:ext cx="629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’s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691480" y="0"/>
            <a:ext cx="452520" cy="48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88280" y="0"/>
            <a:ext cx="406440" cy="48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6880" y="0"/>
            <a:ext cx="2054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~Geometry 2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35200" y="0"/>
            <a:ext cx="13572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r. Fie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433760" y="0"/>
            <a:ext cx="1252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Ms. Kn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701200" y="455760"/>
            <a:ext cx="442800" cy="5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86840" y="447840"/>
            <a:ext cx="444240" cy="53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064200" y="0"/>
            <a:ext cx="1665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Mr. William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8321760" y="971640"/>
            <a:ext cx="822240" cy="101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8335800" y="3008160"/>
            <a:ext cx="808200" cy="903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8354880" y="1962000"/>
            <a:ext cx="789120" cy="105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8410680" y="3967200"/>
            <a:ext cx="733320" cy="98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8380440" y="4913280"/>
            <a:ext cx="76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8426520" y="5959440"/>
            <a:ext cx="717480" cy="898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>
            <a:lum bright="30000"/>
          </a:blip>
          <a:stretch/>
        </p:blipFill>
        <p:spPr>
          <a:xfrm>
            <a:off x="7227720" y="5856120"/>
            <a:ext cx="1170000" cy="1001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98680" y="1406520"/>
            <a:ext cx="58104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19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pecial right tri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2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regular polygons and circles and circle s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46680" y="5808600"/>
            <a:ext cx="1503360" cy="1049040"/>
            <a:chOff x="5746680" y="5808600"/>
            <a:chExt cx="1503360" cy="1049040"/>
          </a:xfrm>
        </p:grpSpPr>
        <p:pic>
          <p:nvPicPr>
            <p:cNvPr id="115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746680" y="5827680"/>
              <a:ext cx="82224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4"/>
            <a:stretch/>
          </p:blipFill>
          <p:spPr>
            <a:xfrm>
              <a:off x="6528960" y="5808600"/>
              <a:ext cx="721080" cy="100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" descr=""/>
          <p:cNvPicPr/>
          <p:nvPr/>
        </p:nvPicPr>
        <p:blipFill>
          <a:blip r:embed="rId15"/>
          <a:srcRect l="0" t="0" r="27699" b="49819"/>
          <a:stretch/>
        </p:blipFill>
        <p:spPr>
          <a:xfrm>
            <a:off x="0" y="1287360"/>
            <a:ext cx="2679840" cy="2863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14360" y="3387600"/>
            <a:ext cx="181296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ci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bylon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20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44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57360" y="577440"/>
            <a:ext cx="6294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day’s 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691480" y="0"/>
            <a:ext cx="452520" cy="482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288280" y="0"/>
            <a:ext cx="406440" cy="484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26880" y="0"/>
            <a:ext cx="20545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~Geometry 2~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35200" y="0"/>
            <a:ext cx="13572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r. Fie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433760" y="0"/>
            <a:ext cx="12528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Ms. Kn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701200" y="455760"/>
            <a:ext cx="442800" cy="528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286840" y="447840"/>
            <a:ext cx="444240" cy="537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064200" y="0"/>
            <a:ext cx="166536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Arial Black"/>
              </a:rPr>
              <a:t>Mr. William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8321760" y="971640"/>
            <a:ext cx="822240" cy="101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8335800" y="3008160"/>
            <a:ext cx="808200" cy="903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8354880" y="1962000"/>
            <a:ext cx="789120" cy="1059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8410680" y="3967200"/>
            <a:ext cx="733320" cy="98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8380440" y="4913280"/>
            <a:ext cx="763560" cy="1122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8426520" y="5959440"/>
            <a:ext cx="717480" cy="89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>
            <a:lum bright="30000"/>
          </a:blip>
          <a:stretch/>
        </p:blipFill>
        <p:spPr>
          <a:xfrm>
            <a:off x="7227720" y="5856120"/>
            <a:ext cx="1170000" cy="1001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98680" y="1406520"/>
            <a:ext cx="58104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19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special right triangles needed for Mr. Field’s presentation on cir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 2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regular polygons and circles and circle s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746680" y="5808600"/>
            <a:ext cx="1503360" cy="1049040"/>
            <a:chOff x="5746680" y="5808600"/>
            <a:chExt cx="1503360" cy="1049040"/>
          </a:xfrm>
        </p:grpSpPr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5746680" y="5827680"/>
              <a:ext cx="82224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6528960" y="5808600"/>
              <a:ext cx="721080" cy="100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" descr=""/>
          <p:cNvPicPr/>
          <p:nvPr/>
        </p:nvPicPr>
        <p:blipFill>
          <a:blip r:embed="rId14"/>
          <a:stretch/>
        </p:blipFill>
        <p:spPr>
          <a:xfrm>
            <a:off x="0" y="1620720"/>
            <a:ext cx="2587680" cy="3640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4302000"/>
            <a:ext cx="248760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i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elps E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69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 hand dri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s of shared interse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way traffic circ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-way stre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sig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vement mar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s against jaywal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xi sta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-street par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iver’s licen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hicle regist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tick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35360" y="0"/>
            <a:ext cx="3376800" cy="339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75240" y="3452760"/>
            <a:ext cx="45687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al: find the area of the circle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44680" y="1743120"/>
            <a:ext cx="3614400" cy="361476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3680" y="35053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30280" y="2657520"/>
            <a:ext cx="1546560" cy="892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08320" y="3614760"/>
            <a:ext cx="1873080" cy="131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2960" y="313524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11560" y="1430280"/>
            <a:ext cx="42562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a of sector is 20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rimeter is 20 cm. Find the are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327320" y="2570040"/>
            <a:ext cx="2852640" cy="285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perimeter is 24 cm. Find the are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090880" y="2133720"/>
            <a:ext cx="4027320" cy="34830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686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erimeter is 20 cm. Find the area. (using triangles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977760" y="2570040"/>
            <a:ext cx="2853000" cy="285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CircleAreaWedges"/>
          <p:cNvPicPr/>
          <p:nvPr/>
        </p:nvPicPr>
        <p:blipFill>
          <a:blip r:embed="rId1"/>
          <a:srcRect l="0" t="13927" r="70180" b="29157"/>
          <a:stretch/>
        </p:blipFill>
        <p:spPr>
          <a:xfrm>
            <a:off x="0" y="2017800"/>
            <a:ext cx="3111480" cy="3346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CircleAreaWedges"/>
          <p:cNvPicPr/>
          <p:nvPr/>
        </p:nvPicPr>
        <p:blipFill>
          <a:blip r:embed="rId2"/>
          <a:srcRect l="39306" t="11867" r="7868" b="52816"/>
          <a:stretch/>
        </p:blipFill>
        <p:spPr>
          <a:xfrm>
            <a:off x="3471840" y="4297320"/>
            <a:ext cx="5672160" cy="2138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5915160" y="3301920"/>
            <a:ext cx="27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6769080" y="4440240"/>
            <a:ext cx="20908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99000" y="4440240"/>
            <a:ext cx="215424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35320" y="4746600"/>
            <a:ext cx="0" cy="145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51080" y="3236760"/>
            <a:ext cx="2001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87480" y="2178000"/>
            <a:ext cx="2938320" cy="2894040"/>
          </a:xfrm>
          <a:prstGeom prst="ellipse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87840" y="1233360"/>
            <a:ext cx="91764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d=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22680" y="2041560"/>
            <a:ext cx="10270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lue=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8817120" y="4726080"/>
            <a:ext cx="0" cy="145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83000" y="6400800"/>
            <a:ext cx="529128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d the area given the circumference is 22m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000080" y="2198520"/>
            <a:ext cx="3570480" cy="357048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ind the area given the circumference is 30m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000080" y="2198520"/>
            <a:ext cx="3570480" cy="3570480"/>
          </a:xfrm>
          <a:prstGeom prst="ellipse">
            <a:avLst/>
          </a:prstGeom>
          <a:solidFill>
            <a:srgbClr val="99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illiamson</cp:lastModifiedBy>
  <dcterms:modified xsi:type="dcterms:W3CDTF">2010-07-26T15:26:19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